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44C-0A4C-4767-861E-C678AA8F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AFF-9EA9-4EBD-B2A9-2185354A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1E7-2011-4F8F-9AB5-D3BF99DD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8D2-6C5D-41FA-B01D-0A06E0A5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8E43-9F80-4B4B-9AE7-5CE081B6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3609-90D3-433F-9A5A-6EEC61EA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B6E7-B67C-448D-A91F-89BD7649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3DDA-D221-4C48-B4F4-F1DC10C7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2A1A-C30F-4C13-AD57-7ED2EA7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DE4A-9312-4B61-897A-CF1F5C4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4E05-AB06-4DC9-B30F-BE58DC2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6B2-7271-4029-80C6-D802BAE4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32DA-11D4-425C-9CD4-E1B560A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4777-9EE6-4901-8D16-5F05B6DC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3041-8433-4B86-ABB1-FF926F83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B316-9971-492E-8F64-DB658B77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7DCC-97A5-4D15-A9E6-D1249E3C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39D-97BF-4989-BC34-1A62EE85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551-0725-4FF2-87FD-69A26FC5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19C-8424-4AE6-88C5-20B744F0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F16-BCE5-4116-8D28-F7611CB3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564-5F1D-4E01-ACC0-F5970BD5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C09-B010-4A19-9F45-B73470A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367-00A7-47D6-A6A9-899D137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662B-D082-45BC-8A93-3434B6F9D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837-D803-4DF5-9F78-92FA53B6BB71}" type="slidenum">
              <a:rPr b="0" lang="en-US" sz="1400" spc="-1" strike="noStrike">
                <a:solidFill>
                  <a:srgbClr val="0000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imsbury High Scho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ahoma"/>
              </a:rPr>
              <a:t>The Trojan Cod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Know the Cod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Professional Development Ses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disciplinary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ed 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is PBIS and how can it work in our scho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ing and defining behavior statement and expec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ing the matri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ng the office discipline referral 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ng course syllabi to include the Trojan Code expec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 upd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BISWorld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alution of the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Beginning of the year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roll-o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 session for teachers in Aug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class meetings during the first week of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ly discussions during SHS Connect (adviso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urrent Challen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eeping the momentum going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booster sessions, pep rallies for winter and spring sports, class meetings, student videos, weekly e-mail blasts, Trojan Code Sports N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unding for Thank You Program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grant from SPTC, budgeted for 2012-2013, no or low cost incen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ss of faculty meeting and professional development tim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ime in February and future faculty meet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ass cutt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ata indicates this is our biggest issue: student survey, revision of consequ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velopment of Tier 2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analyzing what practices we have in place, piloting CICO, continued PD with CRE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By the Number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s of March 30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.88% received 1 referral (tier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35% received 2-6 referrals (tier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57% received &gt;6 referrals (tier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tal number of referrals is 24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6% of all referrals are for class cu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udents with IEP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78 of our 2411 referrals come from students with IE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.68% of total referrals come from the 8.57% of the population that has an I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 9             3.11% of total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 10            5.18% of total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 11            2.20% of total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 12            5.18% of total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n a POSITIVE not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93 students (50%) pledged the Trojan C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23 Trojan Code Tickets were turned in during quarter 1 to 423 (25%)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48 Trojan Code Tickets were turned in during quarter 2 to 276 (17%)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00 students learned the fight s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8% of students have ZERO refer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% of teachers report a positive change in school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4% of teachers have given out Trojan Tic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y 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ed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d to teachers’ concerns regarding student behavior and school cul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e what was started at the elementary and middle school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rly communicate behavioral expec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hasize positive interactions and behavio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ze students on a regular basis for doing the right t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Trojan Code"/>
          <p:cNvPicPr/>
          <p:nvPr/>
        </p:nvPicPr>
        <p:blipFill>
          <a:blip r:embed="rId1"/>
          <a:stretch/>
        </p:blipFill>
        <p:spPr>
          <a:xfrm>
            <a:off x="7238880" y="152280"/>
            <a:ext cx="17528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y do we need it?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ssion of SHS is to help students realize his/her potential by learning the knowledge, skills and behaviors that promote both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sonal fulfillment and civic responsibi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S Core Values and Beliefs – School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embers of the school community demonstrate honor, respect and responsibility in their actions and deci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Trojan Code"/>
          <p:cNvPicPr/>
          <p:nvPr/>
        </p:nvPicPr>
        <p:blipFill>
          <a:blip r:embed="rId1"/>
          <a:stretch/>
        </p:blipFill>
        <p:spPr>
          <a:xfrm>
            <a:off x="152280" y="5029200"/>
            <a:ext cx="17528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HS Statement of Behavi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3057480"/>
            <a:ext cx="777240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sbury High School cultivates an environment that values excellence and ethical behavior in all its members.  Our focus on a positive school culture is the foundation of SH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HS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The Trojan Co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avioral Expect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pectf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showing consideration or appreciation for people’s thoughts, feelings, requests, ideas and prop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nora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cting with honesty, fairness, and with integ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pon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being accountable for one’s actions as well as being reliable and depend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lace Specific and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early Defi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 Se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fe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ing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mb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Gr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Trojan Code"/>
          <p:cNvPicPr/>
          <p:nvPr/>
        </p:nvPicPr>
        <p:blipFill>
          <a:blip r:embed="rId1"/>
          <a:stretch/>
        </p:blipFill>
        <p:spPr>
          <a:xfrm>
            <a:off x="5486400" y="2666880"/>
            <a:ext cx="2438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Thank You Progra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jan Code Tickets with weekly drawings for students and teac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rterly drawings for honor roll, perfect attendance, and no disciplinary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jan Code Pledge (Honor Code) with transcript desig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nk You Thursdays – positive recognition during announce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pportunities during class meetings, school announcements and local news pub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postcards to send home to parents with address labels in each of the faculty roo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Quarter Pilot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pring 2011:  Perfect attendance for students and teacher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pring 2012:  C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centives: prom tickets, yearbooks, parking space, senior portrait sitting, fall sports pass, gift cards, choice of open study period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:  choice of duty and choice of prep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r 2 pilot – CICO with 4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ructures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in Plac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thly Trojan Code meetings – working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thly School Culture meetings - TC reports out here to a larger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thly Data team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ulty meeting and professional development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thly student committee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jan Tickets/Thank You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jan Code Blasts (weekl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12 – 2013:   Expansion of SHS Connect through grade 11 with monthly Trojan Code fo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6:52:51Z</dcterms:created>
  <dc:creator>Eileen</dc:creator>
  <dc:description/>
  <dc:language>en-US</dc:language>
  <cp:lastModifiedBy>Eileen</cp:lastModifiedBy>
  <dcterms:modified xsi:type="dcterms:W3CDTF">2012-04-04T02:25:21Z</dcterms:modified>
  <cp:revision>6</cp:revision>
  <dc:subject/>
  <dc:title>Simsbury High School The Trojan Cod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